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9848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4600"/>
            <a:ext cx="250236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248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2460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98480"/>
            <a:ext cx="37926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246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9360"/>
            <a:ext cx="1447920" cy="6856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42880"/>
            <a:ext cx="4724280" cy="152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32640"/>
            <a:ext cx="3505320" cy="226800"/>
          </a:xfrm>
          <a:prstGeom prst="rect">
            <a:avLst/>
          </a:prstGeom>
          <a:gradFill rotWithShape="0">
            <a:gsLst>
              <a:gs pos="0">
                <a:srgbClr val="750017"/>
              </a:gs>
              <a:gs pos="50000">
                <a:srgbClr val="ff0033"/>
              </a:gs>
              <a:gs pos="100000">
                <a:srgbClr val="75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58920" y="452520"/>
            <a:ext cx="8785080" cy="7617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12600"/>
            <a:ext cx="1447920" cy="6856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efef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920" y="1447920"/>
            <a:ext cx="8785080" cy="1752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ulte@ps.uni-sb.de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rbage Coll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and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482560" y="4005000"/>
            <a:ext cx="410508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xcerpted from presentation by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hristian Schul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ogramming Systems 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niversität des Saarlandes,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f0033"/>
                </a:solidFill>
                <a:uFillTx/>
                <a:latin typeface="Lucida Console"/>
                <a:hlinkClick r:id="rId1"/>
              </a:rPr>
              <a:t>schulte@ps.uni-sb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6453360"/>
            <a:ext cx="360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s and Poin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block, c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 to n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de access: *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ldren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ldren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of pointers to nodes referred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313992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912000" y="2201760"/>
            <a:ext cx="444240" cy="722520"/>
            <a:chOff x="6912000" y="2201760"/>
            <a:chExt cx="444240" cy="722520"/>
          </a:xfrm>
        </p:grpSpPr>
        <p:sp>
          <p:nvSpPr>
            <p:cNvPr id="111" name=""/>
            <p:cNvSpPr/>
            <p:nvPr/>
          </p:nvSpPr>
          <p:spPr>
            <a:xfrm>
              <a:off x="6912000" y="2276640"/>
              <a:ext cx="0" cy="647640"/>
            </a:xfrm>
            <a:prstGeom prst="line">
              <a:avLst/>
            </a:prstGeom>
            <a:ln w="633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49800" y="2201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308720" y="3500280"/>
            <a:ext cx="0" cy="93672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3500280"/>
            <a:ext cx="0" cy="93672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5008320"/>
            <a:ext cx="7772400" cy="152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traction of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es new nodes with poi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rects pointers, creating gar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32000" y="2133720"/>
            <a:ext cx="1871640" cy="1942920"/>
            <a:chOff x="1332000" y="2133720"/>
            <a:chExt cx="1871640" cy="1942920"/>
          </a:xfrm>
        </p:grpSpPr>
        <p:sp>
          <p:nvSpPr>
            <p:cNvPr id="118" name=""/>
            <p:cNvSpPr/>
            <p:nvPr/>
          </p:nvSpPr>
          <p:spPr>
            <a:xfrm>
              <a:off x="1979640" y="2133720"/>
              <a:ext cx="1224000" cy="576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979640" y="2492280"/>
              <a:ext cx="216000" cy="1008000"/>
            </a:xfrm>
            <a:prstGeom prst="line">
              <a:avLst/>
            </a:prstGeom>
            <a:ln w="63360">
              <a:solidFill>
                <a:srgbClr val="ff00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2000" y="3500280"/>
              <a:ext cx="1224000" cy="5763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852720" y="350028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2494080"/>
            <a:ext cx="1513080" cy="93492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88000" y="2852640"/>
            <a:ext cx="2520720" cy="936360"/>
            <a:chOff x="4788000" y="2852640"/>
            <a:chExt cx="2520720" cy="936360"/>
          </a:xfrm>
        </p:grpSpPr>
        <p:sp>
          <p:nvSpPr>
            <p:cNvPr id="124" name=""/>
            <p:cNvSpPr/>
            <p:nvPr/>
          </p:nvSpPr>
          <p:spPr>
            <a:xfrm>
              <a:off x="6084720" y="2852640"/>
              <a:ext cx="1224000" cy="5763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788000" y="3141360"/>
              <a:ext cx="1296720" cy="647640"/>
            </a:xfrm>
            <a:prstGeom prst="line">
              <a:avLst/>
            </a:prstGeom>
            <a:ln w="63360">
              <a:solidFill>
                <a:srgbClr val="ff00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987640" y="2492280"/>
            <a:ext cx="2952720" cy="57636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52)"/>
                                      </p:to>
                                    </p:set>
                                    <p:set>
                                      <p:cBhvr>
                                        <p:cTn id="181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00000" y="4218120"/>
            <a:ext cx="76615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des referred to by several po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s manual deallocation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decision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ect other pointers to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s instance of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red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213372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2492280"/>
            <a:ext cx="2016000" cy="100800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2720" y="350028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84720" y="2852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88000" y="3141360"/>
            <a:ext cx="1296720" cy="64764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2492280"/>
            <a:ext cx="2952720" cy="57636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52)"/>
                                      </p:to>
                                    </p:set>
                                    <p:set>
                                      <p:cBhvr>
                                        <p:cTn id="19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Use by a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 When is nod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t any longer used by progra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any program not us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program sket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ed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rmin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doomed: halting problem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“last use” undecidabl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fe Approx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able and also si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means saf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unused nodes fre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means approxim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unused nodes might not be fre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des that can be accessed by mut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habl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823920"/>
            <a:ext cx="7772400" cy="27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hable from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root 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variables (stac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hable from reachable no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4560" y="1914480"/>
            <a:ext cx="718920" cy="16588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198900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92360" y="292428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6360" y="2276640"/>
            <a:ext cx="1295280" cy="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3213000"/>
            <a:ext cx="2087640" cy="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162864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49228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321300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2349360"/>
            <a:ext cx="1077840" cy="43200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1989000"/>
            <a:ext cx="576360" cy="115272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35640" y="1989000"/>
            <a:ext cx="792000" cy="50328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3213000"/>
            <a:ext cx="2449440" cy="287280"/>
          </a:xfrm>
          <a:prstGeom prst="line">
            <a:avLst/>
          </a:prstGeom>
          <a:ln w="6336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52)"/>
                                      </p:to>
                                    </p:set>
                                    <p:set>
                                      <p:cBhvr>
                                        <p:cTn id="247" dur="indefinite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indefinite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52)"/>
                                      </p:to>
                                    </p:set>
                                    <p:set>
                                      <p:cBhvr>
                                        <p:cTn id="252" dur="indefinite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52)"/>
                                      </p:to>
                                    </p:set>
                                    <p:set>
                                      <p:cBhvr>
                                        <p:cTn id="261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52)"/>
                                      </p:to>
                                    </p:set>
                                    <p:set>
                                      <p:cBhvr>
                                        <p:cTn id="266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 Reachable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reachable, if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element of the root set, 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element of children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reach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hable node also called “live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 and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 set of reachable n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 nodes known to be not reach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chability: Safe Approxi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to not reachable node im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on language seman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C/C++? later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xi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hable node might never be acces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er must know about thi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you been aware of thi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Garbage Coll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-Swee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-Co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y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Chapter 1&amp;2 of [Lins&amp;Jones,96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rbage Colle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57240" y="1700280"/>
            <a:ext cx="76611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6560" y="1357200"/>
            <a:ext cx="592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060640"/>
            <a:ext cx="761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oncerned with the </a:t>
            </a: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automatic re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ynamically allocated memory after its last use by 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rk-Sweep Coll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 reachable nodes: Ma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ing garbage colle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 not reachable nodes: Swee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 when out of memory: Allo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used with LISP [McCarthy, 1960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2060640"/>
            <a:ext cx="756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node* new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cc33"/>
                </a:solidFill>
                <a:latin typeface="Lucida Console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(free_pool </a:t>
            </a:r>
            <a:r>
              <a:rPr b="1" lang="en-US" sz="2400" spc="-1" strike="noStrike">
                <a:solidFill>
                  <a:srgbClr val="33cc33"/>
                </a:solidFill>
                <a:latin typeface="Lucida Console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emp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mark_swee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2060640"/>
            <a:ext cx="756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node* new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cc33"/>
                </a:solidFill>
                <a:latin typeface="Lucida Console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(free_pool </a:t>
            </a:r>
            <a:r>
              <a:rPr b="1" lang="en-US" sz="2400" spc="-1" strike="noStrike">
                <a:solidFill>
                  <a:srgbClr val="33cc33"/>
                </a:solidFill>
                <a:latin typeface="Lucida Console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emp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mark_swee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cc33"/>
                </a:solidFill>
                <a:latin typeface="Lucida Console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allocat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rbage Coll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42920" y="2060640"/>
            <a:ext cx="756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oid mark_sweep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cc33"/>
                </a:solidFill>
                <a:latin typeface="Lucida Console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(r </a:t>
            </a:r>
            <a:r>
              <a:rPr b="1" lang="en-US" sz="2400" spc="-1" strike="noStrike">
                <a:solidFill>
                  <a:srgbClr val="33cc33"/>
                </a:solidFill>
                <a:latin typeface="Lucida Console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ro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mark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rbage Coll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2060640"/>
            <a:ext cx="756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oid mark_sweep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cc33"/>
                </a:solidFill>
                <a:latin typeface="Lucida Console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(r </a:t>
            </a:r>
            <a:r>
              <a:rPr b="1" lang="en-US" sz="2400" spc="-1" strike="noStrike">
                <a:solidFill>
                  <a:srgbClr val="33cc33"/>
                </a:solidFill>
                <a:latin typeface="Lucida Console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ro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mark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149720"/>
            <a:ext cx="3816360" cy="1081080"/>
          </a:xfrm>
          <a:prstGeom prst="wedgeEllipseCallout">
            <a:avLst>
              <a:gd name="adj1" fmla="val -57277"/>
              <a:gd name="adj2" fmla="val -52935"/>
            </a:avLst>
          </a:prstGeom>
          <a:solidFill>
            <a:srgbClr val="3366ff"/>
          </a:solidFill>
          <a:ln w="63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live nodes 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Ma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2060640"/>
            <a:ext cx="7561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oid mark(node* 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cc33"/>
                </a:solidFill>
                <a:latin typeface="Lucida Console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(!is_marked(n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et_mark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Ma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2060640"/>
            <a:ext cx="7561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oid mark(node* 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(!is_marked(n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_mark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4941720"/>
            <a:ext cx="3816360" cy="1081080"/>
          </a:xfrm>
          <a:prstGeom prst="wedgeEllipseCallout">
            <a:avLst>
              <a:gd name="adj1" fmla="val -57277"/>
              <a:gd name="adj2" fmla="val -52935"/>
            </a:avLst>
          </a:prstGeom>
          <a:solidFill>
            <a:srgbClr val="3366ff"/>
          </a:solidFill>
          <a:ln w="63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des reachable from 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Ma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2060640"/>
            <a:ext cx="756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oid mark(node* 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(!is_marked(n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_mark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(m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children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ark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4797360"/>
            <a:ext cx="4392720" cy="1944720"/>
          </a:xfrm>
          <a:prstGeom prst="wedgeEllipseCallout">
            <a:avLst>
              <a:gd name="adj1" fmla="val -56324"/>
              <a:gd name="adj2" fmla="val -51634"/>
            </a:avLst>
          </a:prstGeom>
          <a:solidFill>
            <a:srgbClr val="3366ff"/>
          </a:solidFill>
          <a:ln w="63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th recursion: nodes on path with length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rbage Coll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2060640"/>
            <a:ext cx="756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oid mark_sweep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(r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ro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ark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wee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rbage Coll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2060640"/>
            <a:ext cx="756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oid mark_sweep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(r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ro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ark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wee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4724280"/>
            <a:ext cx="3816360" cy="1657440"/>
          </a:xfrm>
          <a:prstGeom prst="wedgeEllipseCallout">
            <a:avLst>
              <a:gd name="adj1" fmla="val -43467"/>
              <a:gd name="adj2" fmla="val -66379"/>
            </a:avLst>
          </a:prstGeom>
          <a:solidFill>
            <a:srgbClr val="3366ff"/>
          </a:solidFill>
          <a:ln w="63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nodes on heap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rbage colle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ally allocated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use by a pr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for automatic recla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rbage Coll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2060640"/>
            <a:ext cx="756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oid mark_sweep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(r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ro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ark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wee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4724280"/>
            <a:ext cx="3816360" cy="1657440"/>
          </a:xfrm>
          <a:prstGeom prst="wedgeEllipseCallout">
            <a:avLst>
              <a:gd name="adj1" fmla="val -43467"/>
              <a:gd name="adj2" fmla="val -66379"/>
            </a:avLst>
          </a:prstGeom>
          <a:solidFill>
            <a:srgbClr val="3366ff"/>
          </a:solidFill>
          <a:ln w="63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nodes on heap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 not ma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1844640"/>
            <a:ext cx="7561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oid sweep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de* n = heap_bott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(n &lt; heap_top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ger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1844640"/>
            <a:ext cx="7561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oid sweep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de* n = heap_bott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(n &lt; heap_top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(is_marked(n)) clear_mark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ls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ree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 += sizeof(*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rbage Coll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2060640"/>
            <a:ext cx="756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oid mark_sweep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(r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ro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ark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wee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(free_pool is emp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bort(“Memory exhausted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des can be mark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ze of nodes kn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 contiguo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for recursion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ld fields know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: Reali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des can be mark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ze of nodes kn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Heap contiguo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Memory for recursion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ld fields kn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: Conserv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Nodes can be mark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Size of nodes kn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Heap contiguo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Memory for recursion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</a:rPr>
              <a:t>Child fields kn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-Sweep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s cycles and sha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depends 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 nodes (mar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 and garbage nodes (swee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tion must be stopp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interruptible stop/start coll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pa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des remain unchanged (as not mov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p remains fragm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Engineering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goal in 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mpos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thogona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hes with letting each component do its 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ness is global proper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s to “local leak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ing power of modern gc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ly systems (LISP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 to 40% [Steele,75] [Gabriel,85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bage collection is expensive” my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 engineered system of to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 of entire runtime [Wilson, 94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Memory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2060640"/>
            <a:ext cx="7416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tatic 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oid foo(void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* p = (int*) malloc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s of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ing languages and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, C#, Smalltalk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L, Lisp, Scheme, Prolog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l, Python, PHP, JavaScri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 3, Microsoft .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, C++ (Conserva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obe Photo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 file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others in [Wilson, 1996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standing Garbage Collection: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ing garbage col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systems with garbage collection (e.g. Jav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quirements of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aspects of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ing with garbage collection (final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rbage Collection. Richard Jones and Rafael Lins, John Wiley &amp; Sons, 199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processor garbage collection techniques. Paul R. Wilson, ACM Computing Surveys. To appea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version of IWMM 92, St. Ma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5013000"/>
            <a:ext cx="766152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compiler (in text are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le through entire run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2060640"/>
            <a:ext cx="640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Lucida Console"/>
              </a:rPr>
              <a:t>static 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oid foo(void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* p = (int*) malloc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ic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5013000"/>
            <a:ext cx="766152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on procedure call (on stack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le during execution of c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2060640"/>
            <a:ext cx="640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tatic 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oid foo(void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66ff"/>
                </a:solidFill>
                <a:latin typeface="Lucida Console"/>
              </a:rPr>
              <a:t>int j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* p = (int*) malloc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5013000"/>
            <a:ext cx="766152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ally allocated at runtime (on he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le until explicitly dealloc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ally varying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2060640"/>
            <a:ext cx="640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tatic 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oid foo(void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j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66ff"/>
                </a:solidFill>
                <a:latin typeface="Lucida Console"/>
              </a:rPr>
              <a:t>int* p = (int*) malloc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ally Allocated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: heap-allocated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cation: malloc, new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first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llocation: free, delete, dispose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last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, Java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types,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thing that outlives procedure c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it Wro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get to free (memory leak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eventually runs out of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running programs: OSs. servers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to early (dangling point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cky: illegal access detected by 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ror: memory reused, in simultaneous u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s can behave arbitrari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shes might happen much l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s of eff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 to 40%! [Rovner, 1985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3:04:23Z</dcterms:created>
  <dc:creator>Christian Schulte</dc:creator>
  <dc:description/>
  <dc:language>en-US</dc:language>
  <cp:lastModifiedBy>Giuseppe Attardi</cp:lastModifiedBy>
  <dcterms:modified xsi:type="dcterms:W3CDTF">2008-10-07T08:50:40Z</dcterms:modified>
  <cp:revision>130</cp:revision>
  <dc:subject/>
  <dc:title>Garbage Collection - Introduction and Overview</dc:title>
</cp:coreProperties>
</file>